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3FF-3CA1-42E9-8099-395E10F8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B79-FC21-45E7-8CBE-239969CA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B72-0DE9-465D-9C11-DF1BB783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29E-9A7D-4A78-9CB7-FEC46473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1FA0-B7CC-4AE2-A709-31976D32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003A-B282-4474-8D4A-82A9F3B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A1E5-0B9A-4D74-9A03-15E52D12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84EB-A0DD-47EF-8393-0BEC68C6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DA82-FF3D-431B-BFCB-12F8E35E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C86E-BCB3-4D33-A0A7-9233564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B57-DABF-4989-9D7E-ACA7C85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740-66B9-40C7-91F6-333BDDE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3E7-C800-4764-A655-42D736E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CF6-885B-49E6-B794-BCB8E61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8A3A-44BF-4D1D-AEE1-D377D22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6B96-20E4-4353-B64D-FCEDD627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BBD2-363A-417D-AE68-30C4F8B2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B03-CD06-4612-A64F-25DFB8F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4EF-83D5-4A65-B6BF-73EE9B2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8DD-5FB6-405C-89FD-63381879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C81-2773-4C77-8BE9-28AE6A7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20D-CA8A-455D-99AE-9A6A097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7A9-D2D6-4128-A87C-54AFA82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ADA-F2A3-42FE-B1DC-512E204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1F3-E2D0-44AB-9E13-89AFC094A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B28-ED99-43B2-B064-2A9373067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incipales Componentes Y Aleaciones Del Acero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l acero es una aleación de hierro y carbono principalm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da elemento le otorga distintas propiedades al acero en una ale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as propiedades mas importantes s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istencia al desga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le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na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e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umini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esoxid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zuf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Imp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jora la maleabilidad.(máx. de S, 0.2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bo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l más efic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jo cos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ponsable de la dureza y re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Logra aumentar la dureza si el hacer acero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sta totalmente desoxidado.(0.00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ción de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alt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oco habi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sminuye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Útil para revestimientos a altas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temperaturas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resistencia a la corro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umenta la resistencia a las altas temperatu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vita la corrosión. (Acero Inoxid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ósf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erjudi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duce la ductilidad y la resistencia al imp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esente en casi todas las aleaciones de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combinado con Azufre previen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formación de sulfuro de hierro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libd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s el mejor para aumentar la resistencia a bajas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temperaturas.(resistencia por templa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íque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incipal formador de austenita, responsable d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tenacidad y resistencia al impacto del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Insoluble en Hierro(aumento de la maleabilid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ngst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Gran resistencia a alta t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 resistencia al desgaste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Tratamientos del Acer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s Térmico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v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coc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 Termoquí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itru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oductos Y Derivad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Hier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Derivados%20Fierro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r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Hormig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 Molien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frí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ca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chas Gru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u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b-Produ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erivados%20Acero" descr=""/>
          <p:cNvPicPr/>
          <p:nvPr/>
        </p:nvPicPr>
        <p:blipFill>
          <a:blip r:embed="rId1"/>
          <a:stretch/>
        </p:blipFill>
        <p:spPr>
          <a:xfrm>
            <a:off x="4775040" y="380880"/>
            <a:ext cx="355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Usos De Los Product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aglom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sinter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oducción de arra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Fabricación de alambres, clavos y malla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calient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ubos y perfiles. Cañerí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frí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arrocerías, y estructuras livianas. El enlozado vítreo para línea blanca, embutidos. Sin recocer se usa para piezas de alta rigide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onducción de líqu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iversos usos industriales: fabricación cemento, industria de la celul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4:36:17Z</dcterms:created>
  <dc:creator>Familia Leal Zavala</dc:creator>
  <dc:description/>
  <dc:language>en-US</dc:language>
  <cp:lastModifiedBy>Familia Leal Zavala</cp:lastModifiedBy>
  <dcterms:modified xsi:type="dcterms:W3CDTF">2004-04-16T08:24:22Z</dcterms:modified>
  <cp:revision>5</cp:revision>
  <dc:subject/>
  <dc:title>Principales Componentes Y Aleaciones Del Acero </dc:title>
</cp:coreProperties>
</file>